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DECF-33CB-4E0C-9246-E41844287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5669-48C1-4A8E-BD0B-3FB0DFD8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4682-4647-4271-9BF2-AE17845AE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BEAE-30C0-4504-9AD7-48B3B1A4D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FD68-23D3-4960-821F-969B7DF5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9CD7-F84B-4D53-94F8-020579D7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CB2B-700C-482E-9496-B11C8217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E705-5AC6-4AC9-A635-FCF62A6C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1DB4-F1EF-4E4B-AB15-22557C93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D274-EE97-4340-8279-EBEC0C95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978A-DD49-44D2-B44B-5533CEF4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B949-6714-44A8-9B82-226E2320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0984-19D3-46F9-A1CD-189288275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642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380880" y="0"/>
            <a:ext cx="9677160" cy="6964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932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ussia in Revolut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3733920"/>
            <a:ext cx="69339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forget, your Stalin Study Guide is due THURSDAY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ahem*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quiz *ahem*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64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-380880" y="0"/>
            <a:ext cx="9677160" cy="6964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ussia in Revolut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7720" y="2895480"/>
            <a:ext cx="815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oda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itarianis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Earwig Facto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Earwig Factory"/>
              </a:rPr>
              <a:t>MYTHBUST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Life in Stalin’s US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g, that quiz…ma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 Guide fo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S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n Mon. 3/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T SAYS to use 3x5 notecard, hand-written, BUT…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an write whatever you want on your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ellow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Review Gui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use that. Hand-written o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1523880"/>
            <a:ext cx="69343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il_fi" descr=""/>
          <p:cNvPicPr/>
          <p:nvPr/>
        </p:nvPicPr>
        <p:blipFill>
          <a:blip r:embed="rId1"/>
          <a:stretch/>
        </p:blipFill>
        <p:spPr>
          <a:xfrm>
            <a:off x="-457200" y="96840"/>
            <a:ext cx="10134720" cy="66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4800600" cy="3146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09680" y="3429000"/>
            <a:ext cx="48006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228960" y="4568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talin &amp; Nikolai Yezhov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114800" y="304920"/>
            <a:ext cx="4800600" cy="3146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114800" y="3429000"/>
            <a:ext cx="4800600" cy="3143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6320" y="1828800"/>
            <a:ext cx="40384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3300"/>
                </a:solidFill>
                <a:latin typeface="Arial"/>
              </a:rPr>
              <a:t>Nikolai Yezhov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“Commissar for State Security” Senior official of the Soviet secret police under Stalin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Assisted in the Great Purge of the Communist Party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Was TOO POPULAR with the Party members, Stalin got suspiciou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Arrested and accused of being a spy and plotting to assassinate Stalin.  Sent to a work camp.  Executed secretly in 194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l_fi" descr=""/>
          <p:cNvPicPr/>
          <p:nvPr/>
        </p:nvPicPr>
        <p:blipFill>
          <a:blip r:embed="rId1"/>
          <a:stretch/>
        </p:blipFill>
        <p:spPr>
          <a:xfrm>
            <a:off x="-380880" y="0"/>
            <a:ext cx="1013436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64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380880" y="0"/>
            <a:ext cx="9677160" cy="69642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ussia in Revolut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837720" y="2895480"/>
            <a:ext cx="815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oda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itarianis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Earwig Facto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Earwig Factory"/>
              </a:rPr>
              <a:t>MYTHBUST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Life in Stalin’s US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g, that quiz…ma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 Guide fo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S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n Mon. 3/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T SAYS to use 3x5 notecard, hand-written, BUT…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an write whatever you want on your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ellow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Review Gui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use that. Hand-written o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1523880"/>
            <a:ext cx="69343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13:54:54Z</dcterms:created>
  <dc:creator>MCPASD</dc:creator>
  <dc:description/>
  <dc:language>en-US</dc:language>
  <cp:lastModifiedBy>MCPASD</cp:lastModifiedBy>
  <dcterms:modified xsi:type="dcterms:W3CDTF">2012-02-28T19:24:21Z</dcterms:modified>
  <cp:revision>9</cp:revision>
  <dc:subject/>
  <dc:title>Russia in Revolution!</dc:title>
</cp:coreProperties>
</file>